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2C9-C686-4318-87C5-02B25006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637-F217-41F9-98DE-1A4A33AE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06F-BF2E-4899-802E-461ACC9C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17B-BC4E-4E30-B16C-39726A9C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539F-0241-4F60-AFE3-41756B7C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413A-3297-4292-B3DF-11B4D563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6ED1-D8B4-4914-99D3-431D3C78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5766-493D-4775-AF6D-17CDC089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CDDA-BDD5-4ED7-92B6-6CB4700D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8D87-CFCF-450B-B3ED-6D236A6B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5836-FD3F-431D-A9F7-12DBC768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668-A959-4B6C-9774-CCD53B11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4A50-15D9-4D82-BF01-0CB599C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B97E-6ABF-43CF-BD42-6E8C20A2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7D00-9353-4BF8-B760-4404D936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6819-6B1C-4448-85F5-FDC8B4D5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8442-3D5D-4FD7-84BA-C5FD190D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695-1CF1-4D80-BB84-36C3411E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6D7-5810-4B44-8113-9C30E5CD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525-10D6-45FB-840B-EBA0B798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DF8-FBB7-494F-88FD-FE9B799A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C6E-7571-4B6A-81CF-3055713E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481-6DBF-4AAE-8839-7C08F532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379-9CA1-4683-94E7-9FC476B5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F259-3617-497B-A301-B6C074DEC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EC45-D0EC-400D-8EC4-5BFFECBE9C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Андрей\Pictures\Мои рисунки\ЕГЭ, ГИА\6.jpg"/>
          <p:cNvPicPr/>
          <p:nvPr/>
        </p:nvPicPr>
        <p:blipFill>
          <a:blip r:embed="rId2"/>
          <a:stretch/>
        </p:blipFill>
        <p:spPr>
          <a:xfrm>
            <a:off x="7796160" y="0"/>
            <a:ext cx="1347840" cy="117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129200" y="4941360"/>
            <a:ext cx="5014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Выполнила Наталья Георгиевна Харланова, учитель русского языка и литерату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Село Архиповское, Ставропольский кра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Прямоугольник 3" descr=""/>
          <p:cNvPicPr/>
          <p:nvPr/>
        </p:nvPicPr>
        <p:blipFill>
          <a:blip r:embed="rId3"/>
          <a:stretch/>
        </p:blipFill>
        <p:spPr>
          <a:xfrm>
            <a:off x="2567160" y="231840"/>
            <a:ext cx="64911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-8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одолжИ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2) озлОбить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3) полОжил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) лг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5) цепОч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-9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1) шарфЫ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2) щЁлкать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3) красИвее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) экспЕр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5) зАгнут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шарф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-10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опломбИровать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надОлго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3) кУхонны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) приручЁ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5) шофЁ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опломб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-11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лодоносИть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2) прибЫв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3) отозвал А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) дос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5) ве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дос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extBox 1" descr=""/>
          <p:cNvPicPr/>
          <p:nvPr/>
        </p:nvPicPr>
        <p:blipFill>
          <a:blip r:embed="rId2"/>
          <a:stretch/>
        </p:blipFill>
        <p:spPr>
          <a:xfrm>
            <a:off x="-219240" y="981000"/>
            <a:ext cx="90712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 выглядит это задание в новой «015 года) демоверс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1)позвонИм               2) рвалА           3) грАжданство  4) давнИшний            5) отобр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гражд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-1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ялА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Ивовы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носте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елк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Е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щёл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-2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Упорит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гнУты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Овы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илАс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лА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загну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-3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злОбит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авшис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озвалАс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нЕльз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в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начавш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-4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нял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Яв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лубИт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Иво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осприн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-5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Ер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ны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Ав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ла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свет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бра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-6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1) сИроты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2) слИвовый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3) дОнизу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) углуб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5) мЕст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сир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8000" y="404640"/>
            <a:ext cx="892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-7.В одном из приведённых ниже слов допущена ошибка в постановке ударения: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ЕВЕРНО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делена буква, обозначающая ударный гласный звук. Выпишите это сло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убрАла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рИнятый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3)  закУпорить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4)  оптО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5)  чЕрп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5003640" y="5445000"/>
            <a:ext cx="3672000" cy="576360"/>
          </a:xfrm>
          <a:prstGeom prst="rect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сир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0:30Z</dcterms:created>
  <dc:creator>Admin</dc:creator>
  <dc:description/>
  <dc:language>en-US</dc:language>
  <cp:lastModifiedBy>Андрей</cp:lastModifiedBy>
  <dcterms:modified xsi:type="dcterms:W3CDTF">2014-09-11T10:28:54Z</dcterms:modified>
  <cp:revision>14</cp:revision>
  <dc:subject/>
  <dc:title>Слайд 1</dc:title>
</cp:coreProperties>
</file>