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B81-C6ED-4BBE-9704-01B3959AC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0E5C-3CC0-4E5A-833C-BD2E0BC78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4F4-F58A-44DB-BB86-855898542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B6CF-B1E9-4514-AAA4-97638EF73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12A-A792-416D-8D9D-E24147C79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EE7F-123F-4FB2-9B21-7A87DBD36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A9A-E4DF-4E42-B7F5-F2D071A8D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767-8BEF-4D93-945C-4CB4E5379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BBC-3142-4759-B3B9-A6E878DC7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B69-F2B4-4B7D-BADC-73FE612AF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596F-BA0E-4AFF-96BA-35E3E634E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740-9AF0-403A-A66A-7B0F425D9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2B97-D823-4F4F-BF92-40E55087C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74A-F9A3-48F6-807E-43599286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DBF-89C6-40C8-80CC-27E1A639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830-7D36-41F1-BEA7-68976354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9A5-C83B-4BCB-8E86-C50A6B3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236-C908-4341-B3B4-E25D5B09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8EC-0093-45EE-9052-6717289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22D-8186-4470-BB3D-63FFFDE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577-01A9-450A-AAAB-A4FC66A3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04B-F822-447C-BC64-DEB87A0E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61E-C183-45B3-9BF0-8DE7794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103-BE72-4B9A-BEA3-53E9FE1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3A0-7B81-4222-B6E9-93086CC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056A-408F-404A-836F-882AD894F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hyperlink" Target="http://www.it-ru/profil.aspx?cat_no=692&amp;d_no=48111&amp;all=1&amp;page=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04920" y="228600"/>
            <a:ext cx="60958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Рисунок1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472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3"/>
          <p:cNvSpPr/>
          <p:nvPr/>
        </p:nvSpPr>
        <p:spPr>
          <a:xfrm>
            <a:off x="6248520" y="152280"/>
            <a:ext cx="1295280" cy="1219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Горизонтальный свиток 4"/>
          <p:cNvSpPr/>
          <p:nvPr/>
        </p:nvSpPr>
        <p:spPr>
          <a:xfrm>
            <a:off x="3581280" y="2057400"/>
            <a:ext cx="5105520" cy="25909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6b9b8"/>
                </a:solidFill>
                <a:latin typeface="Calibri"/>
              </a:rPr>
              <a:t>тренаже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6"/>
          <p:cNvSpPr/>
          <p:nvPr/>
        </p:nvSpPr>
        <p:spPr>
          <a:xfrm>
            <a:off x="7543800" y="152280"/>
            <a:ext cx="1447920" cy="1219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60020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ченко Вер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У СОШ №7 имени В.П.Ад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11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5181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29718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Прямоугольник 14"/>
          <p:cNvGrpSpPr/>
          <p:nvPr/>
        </p:nvGrpSpPr>
        <p:grpSpPr>
          <a:xfrm>
            <a:off x="1596960" y="2114640"/>
            <a:ext cx="6162840" cy="2139840"/>
            <a:chOff x="1596960" y="2114640"/>
            <a:chExt cx="6162840" cy="2139840"/>
          </a:xfrm>
        </p:grpSpPr>
        <p:pic>
          <p:nvPicPr>
            <p:cNvPr id="19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596960" y="2114640"/>
              <a:ext cx="61628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28800" y="2286000"/>
              <a:ext cx="5791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6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914400" y="228600"/>
            <a:ext cx="8001000" cy="1752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получишь пять приглашений, конечно, идешь туда, где интерес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8380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>
            <a:off x="312408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Прямоугольник 14"/>
          <p:cNvGrpSpPr/>
          <p:nvPr/>
        </p:nvGrpSpPr>
        <p:grpSpPr>
          <a:xfrm>
            <a:off x="1139760" y="2189160"/>
            <a:ext cx="6546960" cy="2138400"/>
            <a:chOff x="1139760" y="2189160"/>
            <a:chExt cx="6546960" cy="2138400"/>
          </a:xfrm>
        </p:grpSpPr>
        <p:pic>
          <p:nvPicPr>
            <p:cNvPr id="216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39760" y="2189160"/>
              <a:ext cx="6546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371600" y="2362320"/>
              <a:ext cx="6172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16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914400" y="228600"/>
            <a:ext cx="8001000" cy="1905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дешь по лесной тропинке, хочется верить, что впереди ждет чудо, встреча с чем-то прекрасным и удив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9"/>
          <p:cNvSpPr/>
          <p:nvPr/>
        </p:nvSpPr>
        <p:spPr>
          <a:xfrm>
            <a:off x="2971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Прямоугольник 14"/>
          <p:cNvGrpSpPr/>
          <p:nvPr/>
        </p:nvGrpSpPr>
        <p:grpSpPr>
          <a:xfrm>
            <a:off x="1523880" y="2266920"/>
            <a:ext cx="6010560" cy="2139840"/>
            <a:chOff x="1523880" y="2266920"/>
            <a:chExt cx="6010560" cy="2139840"/>
          </a:xfrm>
        </p:grpSpPr>
        <p:pic>
          <p:nvPicPr>
            <p:cNvPr id="234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523880" y="2266920"/>
              <a:ext cx="60105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752480" y="2438280"/>
              <a:ext cx="5639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7"/>
          <p:cNvSpPr/>
          <p:nvPr/>
        </p:nvSpPr>
        <p:spPr>
          <a:xfrm>
            <a:off x="152280" y="304920"/>
            <a:ext cx="68580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6"/>
          <p:cNvSpPr/>
          <p:nvPr/>
        </p:nvSpPr>
        <p:spPr>
          <a:xfrm>
            <a:off x="914400" y="228600"/>
            <a:ext cx="8001000" cy="1981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с ним не всегда было легко дружить, но от одного сознания, что он есть, всегда становилось лег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3"/>
          <p:cNvSpPr/>
          <p:nvPr/>
        </p:nvSpPr>
        <p:spPr>
          <a:xfrm>
            <a:off x="7543800" y="4800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7543800" y="5867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Прямоугольник 14"/>
          <p:cNvGrpSpPr/>
          <p:nvPr/>
        </p:nvGrpSpPr>
        <p:grpSpPr>
          <a:xfrm>
            <a:off x="1292400" y="2189160"/>
            <a:ext cx="5857560" cy="2138400"/>
            <a:chOff x="1292400" y="2189160"/>
            <a:chExt cx="5857560" cy="2138400"/>
          </a:xfrm>
        </p:grpSpPr>
        <p:pic>
          <p:nvPicPr>
            <p:cNvPr id="252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292400" y="2189160"/>
              <a:ext cx="58575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23880" y="2362320"/>
              <a:ext cx="5486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6"/>
          <p:cNvSpPr/>
          <p:nvPr/>
        </p:nvSpPr>
        <p:spPr>
          <a:xfrm>
            <a:off x="152280" y="304920"/>
            <a:ext cx="68580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14400" y="228600"/>
            <a:ext cx="8001000" cy="1981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очная и странная она, эта Маша, думал я, как быстро и непонятно меняется ее на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7"/>
          <p:cNvSpPr/>
          <p:nvPr/>
        </p:nvSpPr>
        <p:spPr>
          <a:xfrm>
            <a:off x="228600" y="152280"/>
            <a:ext cx="8763120" cy="2210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Направо и налево чернели мрачные, таинственные пропасти, и туманы, клубясь и извиваясь, как змеи, сползали туда по морщинам соседних скал, будто чувствуя и пугаясь приближения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Прямоугольник 14"/>
          <p:cNvGrpSpPr/>
          <p:nvPr/>
        </p:nvGrpSpPr>
        <p:grpSpPr>
          <a:xfrm>
            <a:off x="1139760" y="2341440"/>
            <a:ext cx="6394680" cy="2138400"/>
            <a:chOff x="1139760" y="2341440"/>
            <a:chExt cx="6394680" cy="2138400"/>
          </a:xfrm>
        </p:grpSpPr>
        <p:pic>
          <p:nvPicPr>
            <p:cNvPr id="27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39760" y="2341440"/>
              <a:ext cx="639468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71600" y="2514600"/>
              <a:ext cx="6019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6"/>
          <p:cNvSpPr/>
          <p:nvPr/>
        </p:nvSpPr>
        <p:spPr>
          <a:xfrm>
            <a:off x="152280" y="228600"/>
            <a:ext cx="68580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276" name="Прямоугольник 3"/>
          <p:cNvGrpSpPr/>
          <p:nvPr/>
        </p:nvGrpSpPr>
        <p:grpSpPr>
          <a:xfrm>
            <a:off x="-6480" y="6480"/>
            <a:ext cx="9150480" cy="6864120"/>
            <a:chOff x="-6480" y="6480"/>
            <a:chExt cx="9150480" cy="6864120"/>
          </a:xfrm>
        </p:grpSpPr>
        <p:pic>
          <p:nvPicPr>
            <p:cNvPr id="27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6480" y="6480"/>
              <a:ext cx="9150480" cy="68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7"/>
          <p:cNvSpPr/>
          <p:nvPr/>
        </p:nvSpPr>
        <p:spPr>
          <a:xfrm>
            <a:off x="-214200" y="6157800"/>
            <a:ext cx="86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hm-a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Прямоугольник 12"/>
          <p:cNvGrpSpPr/>
          <p:nvPr/>
        </p:nvGrpSpPr>
        <p:grpSpPr>
          <a:xfrm>
            <a:off x="426960" y="1865160"/>
            <a:ext cx="8217000" cy="3859200"/>
            <a:chOff x="426960" y="1865160"/>
            <a:chExt cx="8217000" cy="3859200"/>
          </a:xfrm>
        </p:grpSpPr>
        <p:pic>
          <p:nvPicPr>
            <p:cNvPr id="281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426960" y="1865160"/>
              <a:ext cx="821700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71680" y="2000160"/>
              <a:ext cx="792936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10"/>
          <p:cNvSpPr/>
          <p:nvPr/>
        </p:nvSpPr>
        <p:spPr>
          <a:xfrm>
            <a:off x="785880" y="2143080"/>
            <a:ext cx="7500960" cy="3202560"/>
          </a:xfrm>
          <a:prstGeom prst="rect">
            <a:avLst/>
          </a:prstGeom>
          <a:gradFill rotWithShape="0">
            <a:gsLst>
              <a:gs pos="0">
                <a:srgbClr val="8a3cc4"/>
              </a:gs>
              <a:gs pos="100000">
                <a:srgbClr val="8b32ce"/>
              </a:gs>
            </a:gsLst>
            <a:lin ang="189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Удачи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Рисунок1"/>
          <p:cNvPicPr/>
          <p:nvPr/>
        </p:nvPicPr>
        <p:blipFill>
          <a:blip r:embed="rId3"/>
          <a:stretch/>
        </p:blipFill>
        <p:spPr>
          <a:xfrm>
            <a:off x="7415280" y="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287" name="Прямоугольник 3"/>
          <p:cNvGrpSpPr/>
          <p:nvPr/>
        </p:nvGrpSpPr>
        <p:grpSpPr>
          <a:xfrm>
            <a:off x="-6480" y="6480"/>
            <a:ext cx="9150480" cy="6864120"/>
            <a:chOff x="-6480" y="6480"/>
            <a:chExt cx="9150480" cy="6864120"/>
          </a:xfrm>
        </p:grpSpPr>
        <p:pic>
          <p:nvPicPr>
            <p:cNvPr id="28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6480" y="6480"/>
              <a:ext cx="9150480" cy="68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7"/>
          <p:cNvSpPr/>
          <p:nvPr/>
        </p:nvSpPr>
        <p:spPr>
          <a:xfrm>
            <a:off x="-214200" y="6157800"/>
            <a:ext cx="86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hm-a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Прямоугольник 12"/>
          <p:cNvGrpSpPr/>
          <p:nvPr/>
        </p:nvGrpSpPr>
        <p:grpSpPr>
          <a:xfrm>
            <a:off x="66600" y="1365120"/>
            <a:ext cx="8931240" cy="4859640"/>
            <a:chOff x="66600" y="1365120"/>
            <a:chExt cx="8931240" cy="4859640"/>
          </a:xfrm>
        </p:grpSpPr>
        <p:pic>
          <p:nvPicPr>
            <p:cNvPr id="292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6600" y="1365120"/>
              <a:ext cx="8931240" cy="48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14200" y="1500120"/>
              <a:ext cx="86439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"/>
          <p:cNvSpPr/>
          <p:nvPr/>
        </p:nvSpPr>
        <p:spPr>
          <a:xfrm>
            <a:off x="152280" y="1000080"/>
            <a:ext cx="8686800" cy="478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спользованные материа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Шаблон презентаци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Ахметшина Н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Шаблон учебного тренажёр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харова Т.А., Байдакова Т.Б.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it-ru/profil.aspx?cat_no=692&amp;d_no=48111&amp;all=1&amp;page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й язык. 9 класс. Итоговая аттестация 2012/ Л.И.Мальцева, П.И.Нелин, Т.М.Бандоля, Н.М.Смеречинская. – Ростов н/Д: Издатель Мальцев Д.А., М: НИИ школьных технологий,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Рисунок1"/>
          <p:cNvPicPr/>
          <p:nvPr/>
        </p:nvPicPr>
        <p:blipFill>
          <a:blip r:embed="rId4"/>
          <a:stretch/>
        </p:blipFill>
        <p:spPr>
          <a:xfrm>
            <a:off x="7415280" y="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нструкция по работе с тренаж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Рисунок1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28600" y="175248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ый тренажер содержит 12 заданий формата  вопросов  В3, В6 ГИА по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аждое задание имеет 4 варианта ответа. Нужно выбрать  один  правильный, нажав при этом на кружок рядом с выбранным вариантом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Если ответ правильный, появится «плю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Если ответ неверный, появится «мину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Переход к следующему заданию осуществляется по кнопке в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9"/>
          <p:cNvSpPr/>
          <p:nvPr/>
        </p:nvSpPr>
        <p:spPr>
          <a:xfrm>
            <a:off x="2971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Прямоугольник 27"/>
          <p:cNvGrpSpPr/>
          <p:nvPr/>
        </p:nvGrpSpPr>
        <p:grpSpPr>
          <a:xfrm>
            <a:off x="73080" y="1579680"/>
            <a:ext cx="8832960" cy="2138400"/>
            <a:chOff x="73080" y="1579680"/>
            <a:chExt cx="8832960" cy="2138400"/>
          </a:xfrm>
        </p:grpSpPr>
        <p:pic>
          <p:nvPicPr>
            <p:cNvPr id="7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73080" y="1579680"/>
              <a:ext cx="8832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04920" y="1752480"/>
              <a:ext cx="8458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закрыл, стараюсь д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глаза закры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глаза закрыл, стараюсь д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закрыл, стараю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28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914400" y="152280"/>
            <a:ext cx="8077320" cy="144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л на минуту глаза, стараюсь дышать глуб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1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Прямоугольник 14"/>
          <p:cNvGrpSpPr/>
          <p:nvPr/>
        </p:nvGrpSpPr>
        <p:grpSpPr>
          <a:xfrm>
            <a:off x="0" y="1579680"/>
            <a:ext cx="9058320" cy="2138400"/>
            <a:chOff x="0" y="1579680"/>
            <a:chExt cx="9058320" cy="2138400"/>
          </a:xfrm>
        </p:grpSpPr>
        <p:pic>
          <p:nvPicPr>
            <p:cNvPr id="90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0" y="1579680"/>
              <a:ext cx="90583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28600" y="1752480"/>
              <a:ext cx="8686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еще прохлад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был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было прохладно, тих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еще было прохладно, тих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5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914400" y="228600"/>
            <a:ext cx="8001000" cy="129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ке было еще прохладно, ти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3048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Прямоугольник 14"/>
          <p:cNvGrpSpPr/>
          <p:nvPr/>
        </p:nvGrpSpPr>
        <p:grpSpPr>
          <a:xfrm>
            <a:off x="0" y="1579680"/>
            <a:ext cx="9058320" cy="2571480"/>
            <a:chOff x="0" y="1579680"/>
            <a:chExt cx="9058320" cy="2571480"/>
          </a:xfrm>
        </p:grpSpPr>
        <p:pic>
          <p:nvPicPr>
            <p:cNvPr id="10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0" y="1579680"/>
              <a:ext cx="905832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28600" y="1752480"/>
              <a:ext cx="8686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многое можно усл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можно усл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мож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многое мож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16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914400" y="228600"/>
            <a:ext cx="8001000" cy="144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е можно услышать в пробуждающемся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1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5181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5181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"/>
          <p:cNvSpPr/>
          <p:nvPr/>
        </p:nvSpPr>
        <p:spPr>
          <a:xfrm>
            <a:off x="29718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4"/>
          <p:cNvGrpSpPr/>
          <p:nvPr/>
        </p:nvGrpSpPr>
        <p:grpSpPr>
          <a:xfrm>
            <a:off x="0" y="2114640"/>
            <a:ext cx="9058320" cy="2139840"/>
            <a:chOff x="0" y="2114640"/>
            <a:chExt cx="9058320" cy="2139840"/>
          </a:xfrm>
        </p:grpSpPr>
        <p:pic>
          <p:nvPicPr>
            <p:cNvPr id="126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0" y="2114640"/>
              <a:ext cx="905832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28600" y="2286000"/>
              <a:ext cx="8686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он се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он сел, положил подбородок, стал жд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он сел, положил, стал жд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сел, положил, стал жд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6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838080" y="228600"/>
            <a:ext cx="8001000" cy="1905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ел на мельничный жернов, положил подбородок на кулаки и стал терпеливо ждать, не спуская глаз с кал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9144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рямоугольник 14"/>
          <p:cNvGrpSpPr/>
          <p:nvPr/>
        </p:nvGrpSpPr>
        <p:grpSpPr>
          <a:xfrm>
            <a:off x="0" y="1962000"/>
            <a:ext cx="9058320" cy="2140200"/>
            <a:chOff x="0" y="1962000"/>
            <a:chExt cx="9058320" cy="2140200"/>
          </a:xfrm>
        </p:grpSpPr>
        <p:pic>
          <p:nvPicPr>
            <p:cNvPr id="144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0" y="1962000"/>
              <a:ext cx="905832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" y="2133720"/>
              <a:ext cx="8686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Дарья вскочи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Дарья вскочила, принялась накрыв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Дарья вскочила, приняла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Дарья принялась накрыв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18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14400" y="228600"/>
            <a:ext cx="8001000" cy="160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ья вскочила и, все еще взволнованная своим рассказом, принялась накрывать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15"/>
          <p:cNvGrpSpPr/>
          <p:nvPr/>
        </p:nvGrpSpPr>
        <p:grpSpPr>
          <a:xfrm>
            <a:off x="0" y="1962000"/>
            <a:ext cx="9058320" cy="2573640"/>
            <a:chOff x="0" y="1962000"/>
            <a:chExt cx="9058320" cy="2573640"/>
          </a:xfrm>
        </p:grpSpPr>
        <p:pic>
          <p:nvPicPr>
            <p:cNvPr id="149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0" y="1962000"/>
              <a:ext cx="9058320" cy="25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8600" y="2133720"/>
              <a:ext cx="8686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Вода, лес гармониров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Вода, громады, лес гармонировали, создав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Вода, громады, лес гармониров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Вода, громады утесов, лес гармонировали, создав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17"/>
          <p:cNvSpPr/>
          <p:nvPr/>
        </p:nvSpPr>
        <p:spPr>
          <a:xfrm>
            <a:off x="304920" y="152280"/>
            <a:ext cx="8686800" cy="1905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, какие слова являются грамматической основой предложения: Темная вода, громады утесов на берегу и молчаливый лес так гармонировали друг с другом и создавали картину, полную величественной крас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8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7543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2520" y="7621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4"/>
          <p:cNvGrpSpPr/>
          <p:nvPr/>
        </p:nvGrpSpPr>
        <p:grpSpPr>
          <a:xfrm>
            <a:off x="1596960" y="2341440"/>
            <a:ext cx="5632560" cy="2138400"/>
            <a:chOff x="1596960" y="2341440"/>
            <a:chExt cx="5632560" cy="2138400"/>
          </a:xfrm>
        </p:grpSpPr>
        <p:pic>
          <p:nvPicPr>
            <p:cNvPr id="180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596960" y="2341440"/>
              <a:ext cx="56325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828800" y="2514600"/>
              <a:ext cx="5257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7332a4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332a4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16"/>
          <p:cNvSpPr/>
          <p:nvPr/>
        </p:nvSpPr>
        <p:spPr>
          <a:xfrm>
            <a:off x="231120" y="304920"/>
            <a:ext cx="574200" cy="82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3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838080" y="228600"/>
            <a:ext cx="8153640" cy="205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грамматических основ в предложени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солнце кажется светлей, там радостней весна златая, прохладней легкий ветерок, душистее цветы, там сладостней журчит поток, там соловей поет звуч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</dc:creator>
  <dc:description/>
  <dc:language>en-US</dc:language>
  <cp:lastModifiedBy>Админ</cp:lastModifiedBy>
  <dcterms:modified xsi:type="dcterms:W3CDTF">2012-10-09T17:34:5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