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B3FB-5724-4E7F-AC91-B30A5EEF6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A03C-F994-4749-9C47-5538AE18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E505-BE43-4B53-8CB6-944C8C12E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3785-EF9D-4A73-99C3-1BCE77F4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F9CA5-CFAC-47FE-9DC4-CE336309D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5903-477B-4D5C-956D-CDE78B32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4D06-DF21-4540-93CF-0647BAEE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61ED-D304-4BA7-8D05-B98DCFF7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394C-6B0B-4842-BB04-CE7BB7B5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4081-520B-4326-A06E-3EF22EB2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E302-5F5C-4B70-BE85-2EEB206E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BCFC-5855-4700-940D-8DD9D3BF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1E4C-56AB-4AB5-93DC-D45CCBDC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279F-4D07-4D80-831A-D4664200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F858-613E-4745-9A65-0ED827D9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42F4-6C22-40C0-96F6-8AF36D6AE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1530-38CB-4C03-9606-C73EA833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D57C-F279-439B-A524-8531F170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ADDC-4A20-4204-899B-6A7857F4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935B-A779-4FBD-A915-51E45840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2C5A-311C-4EB4-82B9-2A716039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F8D4-1A35-4ADA-8258-A5B97C1C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7AFC-51F8-4C96-AF24-1D927973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1327-F567-47A4-84B3-1FEA37F5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55EE-75E5-4500-9DFD-3C5A973D13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2F99-D033-41D6-AE21-7E4D4D37438D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4920" y="3499920"/>
            <a:ext cx="828036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Обучение написанию сжатого изложения по тексту из научно-познавательной энциклопедии.   Подготовка к ГИА.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Rectangle 4"/>
          <p:cNvSpPr/>
          <p:nvPr/>
        </p:nvSpPr>
        <p:spPr>
          <a:xfrm flipV="1" rot="10800000">
            <a:off x="893520" y="2072880"/>
            <a:ext cx="7281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99"/>
                </a:solidFill>
                <a:latin typeface="Tahoma"/>
              </a:rPr>
              <a:t>       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WordArt 11"/>
          <p:cNvSpPr txBox="1"/>
          <p:nvPr/>
        </p:nvSpPr>
        <p:spPr>
          <a:xfrm rot="10800000">
            <a:off x="8028000" y="2132640"/>
            <a:ext cx="4176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ИА-2012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0560" y="3068640"/>
            <a:ext cx="85690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ahoma"/>
              </a:rPr>
              <a:t>Сказки любят взрослые и дети, сильные и слабые, добрые и не очень.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4400" spc="-1" strike="noStrike">
                <a:solidFill>
                  <a:srgbClr val="ff0000"/>
                </a:solidFill>
                <a:latin typeface="Tahoma"/>
              </a:rPr>
              <a:t>(12 слов)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ahoma"/>
              </a:rPr>
              <a:t>Сказки любят все. (3 слова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Что нельзя удалять из текста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Основные детали,  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помогающие понять авторскую идею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аргументы автора, 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используемые им для доказательства основной мысли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000" y="213840"/>
            <a:ext cx="825948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Критерии оценивания излож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39640" y="1700280"/>
          <a:ext cx="8353440" cy="4680000"/>
        </p:xfrm>
        <a:graphic>
          <a:graphicData uri="http://schemas.openxmlformats.org/drawingml/2006/table">
            <a:tbl>
              <a:tblPr/>
              <a:tblGrid>
                <a:gridCol w="712800"/>
                <a:gridCol w="6919920"/>
                <a:gridCol w="720720"/>
              </a:tblGrid>
              <a:tr h="906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К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жатие исходного текс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л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заменуемый применил 1 или нескольк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ёмов сжатия текста, использовав и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протяжении всего текст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3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заменуемый применил нескольк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ёмов сжатия текста, использовав и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ля сжатия 2 микротем текст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заменуемый применил 1 или несколько приёмов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атия текста, использовав их для сжатия 1 микротемы текс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1 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заменуемый не использовал приёмов сжатия текс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0 б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Внимание!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ри написании изложения экзаменуемым может быть использована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лексика, отличающаяся от той, которая представлена в исходном тексте или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 информации о текст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Читая экзаменационную работу, эксперт устанавливает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1) соответствие количества микротем в работе экзаменуемого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оличеству микротем в информации о текст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2) соответствие последовательности микротем в работе экзаменуемого последовательности микротем в информации о текст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3) точность передачи информации в каждой из микроте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1116000" y="1773360"/>
            <a:ext cx="734364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Желаю успеха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26" name="WordArt 3"/>
          <p:cNvSpPr txBox="1"/>
          <p:nvPr/>
        </p:nvSpPr>
        <p:spPr>
          <a:xfrm>
            <a:off x="2340000" y="5877000"/>
            <a:ext cx="3816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0"/>
                </a:gra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pic>
        <p:nvPicPr>
          <p:cNvPr id="127" name="Picture 4" descr="B_card_051121curN copy"/>
          <p:cNvPicPr/>
          <p:nvPr/>
        </p:nvPicPr>
        <p:blipFill>
          <a:blip r:embed="rId3"/>
          <a:stretch/>
        </p:blipFill>
        <p:spPr>
          <a:xfrm>
            <a:off x="179280" y="115920"/>
            <a:ext cx="1513080" cy="1512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ahoma"/>
              </a:rPr>
              <a:t>Сжатие текста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26"/>
                </a:solidFill>
                <a:latin typeface="Tahoma"/>
              </a:rPr>
              <a:t>Это преобразование, при котором текст заменяется более кратким по объему изложением. При этом </a:t>
            </a: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не допускаются смысловые искажения и утрата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Tahoma"/>
              </a:rPr>
              <a:t>значимых положений</a:t>
            </a:r>
            <a:r>
              <a:rPr b="0" lang="ru-RU" sz="4000" spc="-1" strike="noStrike">
                <a:solidFill>
                  <a:srgbClr val="262626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К приемам компрессии (сжатия) текста относятся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1904760"/>
            <a:ext cx="850752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Исключ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водных сл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днородных членов предложе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втор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днотипных пример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иторических вопросов и восклицани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цитат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еталей, которые не влияют на ход авторской мысл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яснени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ссуждени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писани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лов, предложений, которые могут быть удалены без ущерба для содержа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ри исключении необходимо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1905120"/>
            <a:ext cx="83628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Выделить главное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с точки зрения основной мысли текста, затем 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убрать ненужные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подробности и детали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Объединить полученное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, используя основные средства связи между предложениями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4358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озможность сокращения текста чаще всего основана на явлении избыточности реч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Сказка  живет везде, во всем: в деревьях, листьях,  в самом ветре,  в  земле, в кресле, в  доме, в марте, в  тебе самом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Е.Кривченко)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(22 слова)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избыточными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вляются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однородные обстоятельства,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нкретизирующие обобщающие слова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везде, во всем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Уберем эти однородные обстоятельства. Смысл предложения не изменится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Сказка  живет везде, во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во всем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5 слов)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Обобщение или объединение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парцеллированных предложений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ряда предложений, связанных одной мыслью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частей предложений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конкретных, единичных фактов, событий, явлений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9152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Сказки научат тебя быть добрым, ты увидишь, что они смогут  выручить из любой беды, в которую  ты  можешь угодить. Сказки покажут, как  веселый, но  слабый может победить сильного, но хмурого.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Tahoma"/>
              </a:rPr>
              <a:t>(30 слов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ahoma"/>
              </a:rPr>
              <a:t>Сказки</a:t>
            </a: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Tahoma"/>
              </a:rPr>
              <a:t>научат доброте, оптимизму, выручат из беды. (7 слов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9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Замен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8002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днородных членов обобщающим словом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ложного предложения – простым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асти предложения  или ряда предложений общим понятием или выражением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ямой речи – косвенно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асти текста одним предложением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асти предложения местоимением и т.д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0" y="5848200"/>
            <a:ext cx="1314360" cy="1009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ри  замене необходимо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Найти слова, смысловые части или предложения, которые 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можно сократить с помощью замены обобщающим словом, простым предложением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и т.д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Сформулировать получившееся предложение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04:55:10Z</dcterms:created>
  <dc:creator>Пользователь</dc:creator>
  <dc:description/>
  <dc:language>en-US</dc:language>
  <cp:lastModifiedBy>1</cp:lastModifiedBy>
  <dcterms:modified xsi:type="dcterms:W3CDTF">2013-03-13T12:41:22Z</dcterms:modified>
  <cp:revision>31</cp:revision>
  <dc:subject/>
  <dc:title>Сжатое изложение (теория и практика подготовки)</dc:title>
</cp:coreProperties>
</file>